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89D-7AAA-4BA8-835C-7A43DB92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399-1294-4A7F-85AA-643F3C5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A90-D4AE-42E3-B6AC-29C8DCB1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1BA-44AA-4840-A2D1-FFE58EE3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E27-A098-4374-9342-F4FEB374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BD9-139A-49D8-B314-7729E75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5A3-62A6-407E-BA33-3F5DA675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890-4EAB-4FC8-9B9A-F4F31ECF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349-56DA-479A-B08C-F3115E6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DB1-E99E-4554-B06A-A98FB2A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E64-245E-4973-A77E-6B2A475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2CD-4D5F-4AB1-9D6F-9B69025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499-5346-4432-8D30-2220092D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For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638680" y="45720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198108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57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2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2057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240N@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5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ing the vecto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tip to tail”, regardless of the order, gives us the resul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graphically  find how big this resultant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8288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81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362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522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rection and magnitude of the acceleration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2286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pushes an old fashioned lawnmower at  a constant speed of 3 m/s.  She pushes with 100 N at an angle of 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FBD and find the vertical and horizontal components of her pu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riction must there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orizontal force on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F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952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ertical component of the pull of the 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03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3049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x has a mass of 8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240" y="297180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895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ormal force  that the ground pushes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75320" cy="425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00600" y="457200"/>
            <a:ext cx="3809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imensional forces must be summed up in the x direction alone, the y direction alone, then finally connected head to tail and added with the pythagorean theo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Multiple Forces that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right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685800"/>
            <a:ext cx="8458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ssible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metho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aw the vectors to 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nect the vectors head to t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ultant goes from head of first to the tail of the l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se trigonometry to resolve all vectors into X and y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all the x vectors to each other., then add all the y vectors to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ind the resultant with the Pythagorean Theor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15280" y="4229280"/>
            <a:ext cx="262872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228600"/>
            <a:ext cx="1725480" cy="269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124080" y="4648320"/>
            <a:ext cx="1051200" cy="175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52280"/>
            <a:ext cx="449568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cartoon creatures are trying to pull a statue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phically find the resultant vecto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 applies 100N@2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nguin 200N@2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ie Chan 300N@30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vector is whic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move, and which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200040" y="2819520"/>
            <a:ext cx="198108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9880" y="2819520"/>
            <a:ext cx="1371600" cy="24382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819520"/>
            <a:ext cx="2438640" cy="26668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80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8680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724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724280" y="4572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57200"/>
            <a:ext cx="198144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raphical vector addition to work, the arrows must be drawn at exactly the right angle using a protractor and must be drawn to scale (proportionally) using a ruler.  Check this drawing with a ruler and pro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743200"/>
            <a:ext cx="3200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1813"/>
                </a:solidFill>
                <a:latin typeface="Arial"/>
              </a:rPr>
              <a:t>The Ant applies 100N@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Penguin 200N@2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Jackie Chan 300N@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36:40Z</dcterms:created>
  <dc:creator>SOCSD</dc:creator>
  <dc:description/>
  <dc:language>en-US</dc:language>
  <cp:lastModifiedBy>SOCSD</cp:lastModifiedBy>
  <dcterms:modified xsi:type="dcterms:W3CDTF">2009-11-17T13:14:05Z</dcterms:modified>
  <cp:revision>3</cp:revision>
  <dc:subject/>
  <dc:title>Adding Multiple Forces that are not at right angles</dc:title>
</cp:coreProperties>
</file>